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90B8-9676-4496-B836-2D367DD15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0332-44AD-463E-A73D-5B92589C8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6F58-EB9F-4B07-9A9D-480619EC4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4C64-0CDD-4D97-A078-60957C1AC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D0A3-C9C1-41AE-9227-B35D90C04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167B-5FA7-4639-94BB-09DD1F793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342B-A109-4DDA-A135-0CD6397AE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2C4-8B06-4DC2-8428-5957048E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E151-3E08-46F4-9990-90380A9E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A36-27CF-4A32-A0BF-ADBF79D9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B4D-90C1-43BA-B910-A80247F6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84DE-25F3-40C2-B01C-2EC9E60B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1B25-F362-4C98-8D68-7C7B2E9C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D390-A20E-44B5-8F65-3EBA76B1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AF80-B9FB-4AFE-ADD4-7911C84C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C998-1CE3-4586-B61A-DD36B530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0188-A109-49F7-ABAB-3B298289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1810-7F8C-4399-BC1D-E06BDC5A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87A5-E165-4560-87F7-CF918EFD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8C99-9540-4958-845E-7FE98A97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17AA-1C6A-470B-AE1D-B5654BC1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F77F-552A-4535-B35E-827AB171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B8CB-71E9-4165-830B-D52DA0B9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CBD7-0D79-4D1A-BD79-7F3A1846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F7E7C-7697-457D-B937-032FC2F0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74574-879F-4002-88E5-45E5B925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01243-936C-4FC3-8459-23D68C8F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82D98-4F52-4716-87C6-BA703DEA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1F58A-B11A-425E-B310-08AB62D9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8453-616B-468E-9749-8ED6C1B9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E9AE3-DDCA-411A-9001-3B0504C8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2318A-7A9D-40A2-9832-C621A380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C3A7A-0ADD-4FC7-8ED5-77E918CA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AC8C3-638A-40A5-AE5C-4D4118EF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42E1F-64B9-49E5-9269-0E1A5474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9363F-7E59-4584-A0E1-3F49D348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99107-ED83-42C0-831B-180B252C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4F62D-6019-4262-B810-6AAA7BFB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159DB-BEFF-4C0E-96D0-222770A4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7ABE8-FBBB-44F5-AE14-4A4B2D24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AF5-4699-4ED5-8A6E-CCC2D4AB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62ABD-BEAC-4D74-8D00-5CDD89CB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602FD-2E25-4CAC-8C66-CF13EA8D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88483-2BE0-4925-988F-8DB2579B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8E1F6-E0F3-4383-8026-6D42AD1B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7085D-D70E-4097-A4A5-F82730AE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F3182-D866-4D2C-9536-18ADB63A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4F901-84FB-4529-BC63-16B334A3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75BB8-86A1-449E-A977-730F1F4E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42F1F-26B7-41C0-BA6D-CD7A3F5A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9E996-38F2-4EFF-810F-47E8C810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23CF-E869-47EC-8BE3-6307D198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E5E8E-EBD2-4F65-8A54-D0E515C6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272BA-87D3-43E0-B6AE-FE059788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FE2C5-F784-41A1-8603-2BD3CAE8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1737C-9A60-4C39-BF68-35E8BD97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7AD4B-EE89-4110-8DE5-35F81F4D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2A9B7-A84A-4798-B912-0C48D314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7EFA0-9E3A-49C0-9694-750DCFD4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EF45E-11B8-4EF3-BB33-9C91D33C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9B92C-5AC8-4D56-869A-834A153A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B6AFC-8E7C-4BC3-951A-50C80417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7C1-61EF-4C8D-9192-101AAB9A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0D65C-C2C7-41E9-87B7-204B9D70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7F65D-6E74-4D02-9CEA-C7512D1B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A4058-27D1-47F0-B757-7801BE19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AD748-5385-4184-B335-554BC175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0CE85-7D1D-4A92-A997-2B1C7334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4B4F8-208C-415C-9C8F-7968262E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9D9EF-CDF3-4F65-A574-CE9B41CA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6D161-7568-4E7B-B1E6-3AD29B91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2EB62-1A2A-4E80-9FAE-25768952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B0B55-12B3-4969-91AC-76662B37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E24-AC3F-4DDB-BE66-F27CD669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2F8E3-44A2-4894-9909-9A6480DF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2DA21-6B5E-492A-B40D-D489A248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25834-AC3A-4262-89B9-E175CFD9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488-90EC-4110-9D23-A4AE6928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411-305D-4FE9-B03B-F88CF402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CF26-414D-42D9-B93D-8FE426EC10B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BE21-AE9D-49F7-800F-A21E1BC08F3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CE98-BB9F-4416-A018-19C22D414E4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B7D4-2128-4054-80A8-5BB6BC968CA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2F9D-6377-4E93-8B5A-6A6BD9B5FCB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367B-5A9A-48DE-AB75-633B4CDCCDA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dbfa"/>
                </a:solidFill>
                <a:latin typeface="Constantia"/>
              </a:rPr>
              <a:t>Por: Mikayla Tirabassi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4" name="Picture 3" descr="Picture1.jpg"/>
          <p:cNvPicPr/>
          <p:nvPr/>
        </p:nvPicPr>
        <p:blipFill>
          <a:blip r:embed="rId2"/>
          <a:stretch/>
        </p:blipFill>
        <p:spPr>
          <a:xfrm>
            <a:off x="2514600" y="3733920"/>
            <a:ext cx="4343400" cy="289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b1de1"/>
                </a:solidFill>
                <a:latin typeface="Calibri"/>
              </a:rPr>
              <a:t>Punta Cana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En el punta cana y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aloje en el Dream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Palm Beach Punt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Cana – luxary all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inclusive. Es mu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simpatica, bonita, 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grande. En el hotel hay es u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grande piscina, que yo nado e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mucho. En punta can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es hace calor mucho, 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hace sol. Fui con m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madre, mi amiga Nina, y m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hermana. Yo soy es mu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Contenta fuimos punta cana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6" descr="Exterior"/>
          <p:cNvPicPr/>
          <p:nvPr/>
        </p:nvPicPr>
        <p:blipFill>
          <a:blip r:embed="rId1"/>
          <a:stretch/>
        </p:blipFill>
        <p:spPr>
          <a:xfrm>
            <a:off x="4648320" y="2519280"/>
            <a:ext cx="4038480" cy="2687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La playa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Querido mi padre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Punta cana es muy divertido!!!! 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muy hace calor. Fui la play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mucho! En la playa, nade en el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mar. Mi amiga y yo jugamos  e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las olas. Lleve la crem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protectora por que much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hace sol. Traje la toella d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playa,las gafas de sol, y el rosad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traje de bano.hasta luego! U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abrazo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                                               </a:t>
            </a: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Mikayla Tirabass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Picture 7" descr="beach"/>
          <p:cNvPicPr/>
          <p:nvPr/>
        </p:nvPicPr>
        <p:blipFill>
          <a:blip r:embed="rId1"/>
          <a:stretch/>
        </p:blipFill>
        <p:spPr>
          <a:xfrm>
            <a:off x="5410080" y="2133720"/>
            <a:ext cx="3024360" cy="320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uce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Querido la Amiga Jes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Como esta? Yo es muy bien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Estoy muy ocupado. Buce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mucho! B</a:t>
            </a:r>
            <a:r>
              <a:rPr b="0" lang="es-E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uceo es divertido!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Cuando practique buceo mir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mucho bonita pescado. Buce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a veces puede dar miedo po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que también a veces mir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tiburones. Buceo requiere much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equipo.  Un fuerte</a:t>
            </a:r>
            <a:r>
              <a:rPr b="0" lang="en-U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 abrazo!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Mikayla Tirabass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3" name="Picture 7" descr="snorling"/>
          <p:cNvPicPr/>
          <p:nvPr/>
        </p:nvPicPr>
        <p:blipFill>
          <a:blip r:embed="rId1"/>
          <a:stretch/>
        </p:blipFill>
        <p:spPr>
          <a:xfrm>
            <a:off x="5334120" y="2362320"/>
            <a:ext cx="3124080" cy="2944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00cc"/>
                </a:solidFill>
                <a:latin typeface="Calibri"/>
              </a:rPr>
              <a:t>La plancha de vela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Book Antiqua"/>
              </a:rPr>
              <a:t>Querida es la abuela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Book Antiqua"/>
              </a:rPr>
              <a:t>Hola! Como esta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Book Antiqua"/>
              </a:rPr>
              <a:t>Espero que bien. En Punta Cana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Book Antiqua"/>
              </a:rPr>
              <a:t>tengo hecho mucho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Book Antiqua"/>
              </a:rPr>
              <a:t>Actividades. </a:t>
            </a: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Uno de mi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favorito es la planch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de vela. La plancha de vel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es muy dificil,pero es muy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divertido. La plancha de vel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depende en el tiempo. Tiene que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ser con mucho viento. Tambien l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plancha de vela requiere mucho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precaucion. Por que puedes salir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Herido.</a:t>
            </a:r>
            <a:r>
              <a:rPr b="0" lang="en-US" sz="1600" spc="-1" strike="noStrike">
                <a:solidFill>
                  <a:srgbClr val="9900cc"/>
                </a:solidFill>
                <a:latin typeface="Book Antiqua"/>
              </a:rPr>
              <a:t> T</a:t>
            </a: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ambién hay que usar un poco de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equipo. Manana voy de compra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con my amiga Nina. Hasta luego! Besos y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abrazos!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                                    </a:t>
            </a: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Mikayla Tirabass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6" name="Picture 15" descr="02101551"/>
          <p:cNvPicPr/>
          <p:nvPr/>
        </p:nvPicPr>
        <p:blipFill>
          <a:blip r:embed="rId1"/>
          <a:stretch/>
        </p:blipFill>
        <p:spPr>
          <a:xfrm>
            <a:off x="4952880" y="2133720"/>
            <a:ext cx="3810240" cy="29764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Calibri"/>
              </a:rPr>
              <a:t>La tienda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Book Antiqua"/>
              </a:rPr>
              <a:t>Querido ethan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Book Antiqua"/>
              </a:rPr>
              <a:t>Hola! Como esta! Hoy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Book Antiqua"/>
              </a:rPr>
              <a:t>Fui compras con mi amiga Nina por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Book Antiqua"/>
              </a:rPr>
              <a:t>que lluvia. En la tienda  </a:t>
            </a: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estaba lleno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de  gente.Compro la rosada  camisa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la blue  jeans, y una negro falda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Pasé alrededor de 50 dólares.Mi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amiga la misma camisa excepto en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negro. Después fuimos a un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Restaurante. La comida era muy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bien.  Mi y Nina habia un divertido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dia!       Hasta luego!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      </a:t>
            </a: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Mikayla Tirabassi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9" name="Picture 7" descr="dalian_large_shopping_mall_2005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7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03:45Z</dcterms:created>
  <dc:creator>tirabassimik</dc:creator>
  <dc:description/>
  <dc:language>en-US</dc:language>
  <cp:lastModifiedBy>Rick</cp:lastModifiedBy>
  <dcterms:modified xsi:type="dcterms:W3CDTF">2011-12-01T23:53:13Z</dcterms:modified>
  <cp:revision>21</cp:revision>
  <dc:subject/>
  <dc:title>Mi dream vacaion</dc:title>
</cp:coreProperties>
</file>